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7A776-CDF5-4C88-9D26-9B9AB947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DEBE0-E964-44F5-BC1D-697173A3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7F4E1-088B-4725-86FE-D8376DB3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EE8CD-AFAB-4501-B026-96BD50F1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08E0-2A31-4B3B-A4B0-F9CC3761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161F-FB48-4BFE-8201-83AB8542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1415-59CC-4DB5-A44F-917C3269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709B-6267-41D3-883A-E34969D4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4BF2-33A7-4DEE-9272-3F388501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FDC3-AB99-44D5-886C-26F977E7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93EC-E1AD-4466-AF6B-01F9DB34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403C5-24B6-4797-ACA7-CDD6F24D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C400-23D6-495D-B802-D1B65DCB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5359-5C7E-4B28-A866-7A07ED7B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5782-8666-4DEB-AB15-2F49BE95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0C90-69CE-4B21-A82D-FC2DAA43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B8E9-48B7-4AD5-926A-1E3DFB65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9935B-DD46-4C52-8417-17B6E638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D15DB-FF62-4713-A66C-5CE0CC5E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478C2-BE18-40D5-BA4F-1B8C4CE4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1F3E9-89AF-4EFA-AA20-692A703E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2A4BB-317E-440D-81F8-FA2EA2A5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300DF-91C0-4B46-9B0B-2A1B89A0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61D82-0E0F-499C-8289-54F551C3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932A-6BEF-4D9D-8FB8-DE6F4D500A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5117-583D-42B6-BB05-D84544E324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Homophonic Cipher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a Homopho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7920" y="2123640"/>
            <a:ext cx="7932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mophonic cipher as presented has several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uld be subject to a dictionary attack since the key is just a four lett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number range (1-25, 26-50, 51-75, 76-100) could be subjected to a frequency analysis (CAP will allow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nown word or phrase could be compared to the ciphertext (CAP will run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62001-593A-48BA-8D08-07283F3BE8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04640" y="1733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the ciphertext matrix was created by multiplying the plaintext matrix by the key matrix 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the key matrix can be recovered if we know the inverse of the plaintext matri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33796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 = M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0920" y="5484960"/>
            <a:ext cx="257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K = M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88680" y="5513400"/>
            <a:ext cx="436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Process:  Find the inverse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     the known plaintext, multip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     it times a segment of ciphertex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and check the resulting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5098A-8E3B-4D44-A78A-0B1FBEA3CB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7480" y="1722600"/>
            <a:ext cx="7380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a Hill cipher by hand is very time consuming however CAP will automate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35320" y="3297240"/>
            <a:ext cx="5648040" cy="356076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7288200" y="3056040"/>
            <a:ext cx="1533600" cy="723960"/>
            <a:chOff x="7288200" y="3056040"/>
            <a:chExt cx="1533600" cy="723960"/>
          </a:xfrm>
        </p:grpSpPr>
        <p:sp>
          <p:nvSpPr>
            <p:cNvPr id="124" name=""/>
            <p:cNvSpPr/>
            <p:nvPr/>
          </p:nvSpPr>
          <p:spPr>
            <a:xfrm>
              <a:off x="7288200" y="3056040"/>
              <a:ext cx="1533600" cy="723960"/>
            </a:xfrm>
            <a:prstGeom prst="wedgeRoundRectCallout">
              <a:avLst>
                <a:gd name="adj1" fmla="val -44615"/>
                <a:gd name="adj2" fmla="val 72148"/>
                <a:gd name="adj3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48320" y="3203640"/>
              <a:ext cx="1471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ter your best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uess for the s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630680" y="3027240"/>
            <a:ext cx="1539360" cy="723960"/>
            <a:chOff x="4630680" y="3027240"/>
            <a:chExt cx="1539360" cy="723960"/>
          </a:xfrm>
        </p:grpSpPr>
        <p:sp>
          <p:nvSpPr>
            <p:cNvPr id="127" name=""/>
            <p:cNvSpPr/>
            <p:nvPr/>
          </p:nvSpPr>
          <p:spPr>
            <a:xfrm>
              <a:off x="4630680" y="3027240"/>
              <a:ext cx="1533600" cy="723960"/>
            </a:xfrm>
            <a:prstGeom prst="wedgeRoundRectCallout">
              <a:avLst>
                <a:gd name="adj1" fmla="val -44615"/>
                <a:gd name="adj2" fmla="val 72148"/>
                <a:gd name="adj3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90800" y="3174840"/>
              <a:ext cx="1479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ter a possible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laintext seg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040440" y="4151160"/>
            <a:ext cx="1533600" cy="723600"/>
            <a:chOff x="6040440" y="4151160"/>
            <a:chExt cx="1533600" cy="723600"/>
          </a:xfrm>
        </p:grpSpPr>
        <p:sp>
          <p:nvSpPr>
            <p:cNvPr id="130" name=""/>
            <p:cNvSpPr/>
            <p:nvPr/>
          </p:nvSpPr>
          <p:spPr>
            <a:xfrm>
              <a:off x="6040440" y="4151160"/>
              <a:ext cx="1533600" cy="723600"/>
            </a:xfrm>
            <a:prstGeom prst="wedgeRoundRectCallout">
              <a:avLst>
                <a:gd name="adj1" fmla="val -44615"/>
                <a:gd name="adj2" fmla="val 72148"/>
                <a:gd name="adj3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30080" y="4184280"/>
              <a:ext cx="1352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y the possible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keys until one 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72FE9-DD00-44BA-8006-43948980D2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5-26T23:19:17Z</dcterms:modified>
  <cp:revision>69</cp:revision>
  <dc:subject/>
  <dc:title>CAP Cryptographic Analysis Program</dc:title>
</cp:coreProperties>
</file>