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6EAA0-28B4-4E90-8E3E-DA7B5D93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7644-975F-4F42-A230-23800322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F244-D8D9-4D53-B44E-A78EF9FA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7ECE-6E05-42B7-BB79-B34167A0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4A97-6A7F-4B2E-9358-255C120C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9B67-FBF4-421C-B4F6-5BC49AC3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74C5-75B7-4B70-9517-68549A9E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A475-CFC1-40B5-8AEC-D92E4FC7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01B6-599B-4A71-90E0-F1C44943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3FD1-0F1E-4E73-B42E-FE5F4781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D570-F9B5-4180-A2D0-48E0E893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AAA4B-C69D-49F7-BCE6-1A6F9A21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1B99-FE35-4B2E-BA34-C1767FBF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35D4-3495-49B3-B516-AFE73443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A727-CA37-4FB0-A680-60341F93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1DDE-304E-4AAD-93B2-DBFEA3CA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F4AB-1B89-4E44-B0E4-F9594869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4159-E470-48A9-8DE7-8C34908D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3BDD-C241-4835-97AA-90F3325A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882B6-4911-41EF-9E17-69F503EC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72AD-546D-4BBE-99D9-57F626F6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E3ACB-D35D-4BE4-8BA5-E6A389B7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420C-F45F-4A40-9C8B-C8D6DC00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E9A1D-B019-4035-82FF-872B4F92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82D3-BB4A-4978-A2E4-B2E3CB24C2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5825-86C9-4181-8A90-C1BD6C9B7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neral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challenge you with random cip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Games men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structions on the scre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game help 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explain the details o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ing against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191120" y="1676520"/>
            <a:ext cx="4647960" cy="41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C6114-03EF-4632-A1EF-D988BCAC93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run standardized randomness tests against binary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828800" y="2895480"/>
            <a:ext cx="68580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F0C5-ED73-4D51-ABCB-AE18BA7007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provides a tool for long integer arith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733920" y="2666880"/>
            <a:ext cx="377964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B120-C5A3-469F-AD64-2C15880246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can monitor your code breaking activities and provide a record of your use of other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help you avoid redo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724280" y="1752480"/>
            <a:ext cx="35467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905C5-96CB-43D9-A17E-DC5BD08BC3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alysis Bar offers tools than may prove useful in breaking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562720" y="838080"/>
            <a:ext cx="136368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C427-3783-4A85-B186-BCDB7231C0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is a general purpose tool for the study of classical (and some contemporary) ciph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is really three related programs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that will encrypt and decrypt text using your choice of several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tools for breaking unknown cip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me which will generate random ciphers and challenge you to break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" y="5867280"/>
            <a:ext cx="74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his presentation will introduce you to the general features of 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9D643-D3EB-4966-8AA5-3B91CFF102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items below to jump to help on the specific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just continue to advance through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276720"/>
            <a:ext cx="2333880" cy="542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3886200"/>
            <a:ext cx="2343240" cy="51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520" y="4457880"/>
            <a:ext cx="2390760" cy="49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7086600" y="44197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3657600" y="5638680"/>
            <a:ext cx="2362320" cy="4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609480" y="6172200"/>
            <a:ext cx="231480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3657600" y="3276720"/>
            <a:ext cx="2371680" cy="51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3657600" y="4419720"/>
            <a:ext cx="2343240" cy="52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3657600" y="3886200"/>
            <a:ext cx="2314440" cy="466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3581280" y="5029200"/>
            <a:ext cx="2571840" cy="542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609480" y="5029200"/>
            <a:ext cx="2333880" cy="514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533520" y="5562720"/>
            <a:ext cx="2571480" cy="51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90D23-31FA-4583-9BEA-19ADD991F3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81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first open CAP this is the main wind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5257800" cy="45957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7086600" y="2286000"/>
            <a:ext cx="1219320" cy="762120"/>
            <a:chOff x="7086600" y="2286000"/>
            <a:chExt cx="1219320" cy="762120"/>
          </a:xfrm>
        </p:grpSpPr>
        <p:sp>
          <p:nvSpPr>
            <p:cNvPr id="134" name=""/>
            <p:cNvSpPr/>
            <p:nvPr/>
          </p:nvSpPr>
          <p:spPr>
            <a:xfrm>
              <a:off x="7086600" y="22860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64360" y="2286000"/>
              <a:ext cx="113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012440" y="3886200"/>
            <a:ext cx="1310040" cy="762120"/>
            <a:chOff x="7012440" y="3886200"/>
            <a:chExt cx="1310040" cy="762120"/>
          </a:xfrm>
        </p:grpSpPr>
        <p:sp>
          <p:nvSpPr>
            <p:cNvPr id="137" name=""/>
            <p:cNvSpPr/>
            <p:nvPr/>
          </p:nvSpPr>
          <p:spPr>
            <a:xfrm>
              <a:off x="7022880" y="38862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2440" y="388620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Cipher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4CF2-329B-4E62-A183-0701624B90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men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86200" y="1981080"/>
            <a:ext cx="441468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4191120" y="1981080"/>
            <a:ext cx="990360" cy="533520"/>
            <a:chOff x="4191120" y="1981080"/>
            <a:chExt cx="990360" cy="533520"/>
          </a:xfrm>
        </p:grpSpPr>
        <p:sp>
          <p:nvSpPr>
            <p:cNvPr id="146" name=""/>
            <p:cNvSpPr/>
            <p:nvPr/>
          </p:nvSpPr>
          <p:spPr>
            <a:xfrm>
              <a:off x="4191120" y="1981080"/>
              <a:ext cx="990360" cy="533520"/>
            </a:xfrm>
            <a:prstGeom prst="wedgeRoundRectCallout">
              <a:avLst>
                <a:gd name="adj1" fmla="val -43268"/>
                <a:gd name="adj2" fmla="val 78569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2560" y="1981080"/>
              <a:ext cx="94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onver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ASC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55520" y="2819520"/>
            <a:ext cx="4340160" cy="3200400"/>
            <a:chOff x="155520" y="2819520"/>
            <a:chExt cx="4340160" cy="3200400"/>
          </a:xfrm>
        </p:grpSpPr>
        <p:sp>
          <p:nvSpPr>
            <p:cNvPr id="149" name=""/>
            <p:cNvSpPr/>
            <p:nvPr/>
          </p:nvSpPr>
          <p:spPr>
            <a:xfrm>
              <a:off x="3962520" y="2819520"/>
              <a:ext cx="53316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2133720" y="3200400"/>
              <a:ext cx="157788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55520" y="3505320"/>
              <a:ext cx="196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verting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s is usefu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a variety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ph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4B24-F13D-49D5-9FA7-1184EA1B6E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 men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403848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6A22-5865-412B-9067-DA7986B0C3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is the process of separating the ciphertext into segments of fixed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it easier to read without giving away standard word sp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2390760" cy="3324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134320" y="434016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Block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87840" y="2971800"/>
            <a:ext cx="3588480" cy="1521000"/>
            <a:chOff x="987840" y="2971800"/>
            <a:chExt cx="3588480" cy="1521000"/>
          </a:xfrm>
        </p:grpSpPr>
        <p:sp>
          <p:nvSpPr>
            <p:cNvPr id="162" name=""/>
            <p:cNvSpPr/>
            <p:nvPr/>
          </p:nvSpPr>
          <p:spPr>
            <a:xfrm>
              <a:off x="1197000" y="3407040"/>
              <a:ext cx="31428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7840" y="297180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out spa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7440" y="3505320"/>
              <a:ext cx="289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klttekwpov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tnbzyqacee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77840" y="4654440"/>
            <a:ext cx="3429000" cy="1521000"/>
            <a:chOff x="1077840" y="4654440"/>
            <a:chExt cx="3429000" cy="1521000"/>
          </a:xfrm>
        </p:grpSpPr>
        <p:sp>
          <p:nvSpPr>
            <p:cNvPr id="166" name=""/>
            <p:cNvSpPr/>
            <p:nvPr/>
          </p:nvSpPr>
          <p:spPr>
            <a:xfrm>
              <a:off x="1077840" y="5089680"/>
              <a:ext cx="34290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97640" y="4654440"/>
              <a:ext cx="33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 bloc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4040" y="5187960"/>
              <a:ext cx="311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 kltte kwpov 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 tnbzy qacee 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43F1B-82E4-4ACC-8E1B-700929DE5E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s Menu lists all the possible algorithms which CAP is capable of ru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are being added all th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mplement a cipher, click 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s name in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2827440" cy="4648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2240" y="4267080"/>
            <a:ext cx="40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Help on each cip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vailable from the main help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from the help feature of ea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ci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00AB-80E5-4CC4-9337-6D138A63DF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solv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olve is not active at this time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A903E-5042-4A91-A851-A75B651303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2T00:45:37Z</dcterms:modified>
  <cp:revision>23</cp:revision>
  <dc:subject/>
  <dc:title>CAP Cryptographic Analysis Program</dc:title>
</cp:coreProperties>
</file>