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8AA1-BED4-43FA-8BDF-EFC10179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704E-DFFA-42E2-80A7-09659B4E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FC24-ED21-41F5-8B73-E7AAA9FA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5593-380F-40D1-AE07-43DD169D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E1B5-F69A-4F9F-92D8-56B34480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579F-EC7E-4565-A140-5734FDC3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F3C4-0BAF-47FC-8898-67F26D62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5E8E-0094-4C47-AEC5-E6D8AA38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1992-723E-44C3-B6E1-A00DA69F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5F92-80F6-4328-A283-0C8320C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FF38-2C9A-4553-BFC4-5B5B7E8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C919-E023-4328-A26E-905CCE0B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64A9-799A-450E-A321-49F9CAF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7B97-4F3D-44D8-BDB5-EE34E9C3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7C0B-96C9-41AB-8BC4-C4EBB8E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6012-5F80-4E15-BD73-324E27A7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33F9-B994-4378-94A7-E6511991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AB2B-1095-430B-9883-382DF0B0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5BAA-8A27-48E7-A4B2-CC3FE980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21D9-E560-4803-BC9B-FBDB7E48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F6C8-3DD7-43C5-A165-D6A767C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AD17-6F7A-4CBF-B354-4C83F99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7CC0-1536-4C27-83E1-33062D0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945F-936A-40B1-A812-FEF42BB2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6705-830F-4C45-8788-1A416ECEA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0B67-C28D-4FBE-816D-05F9FF4A1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ype of monoalphabetic cipher is called a multiliteral ci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other weak monoalphabetic cipher that is worth examining because it tries to do something unique - it replaces each plaintext letter with a pair of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iphertext is twice as large as the plaintext and looks very st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0F0C-4085-4723-ADF5-DC8E8BA55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literial Cipher key is a 5 x 5 matri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ve columns and the five rows are each labeled by the same 5 letter keywor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yword cannot have any repeating le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phabet is written in the matri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x has only 25 slots but the alphabet has 26 letters, so the letters “i” and “j” occupy the sam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keyword is “codes” then the key matrix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000" y="473400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 g h i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m n 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 r s t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 w x 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6800" y="4419720"/>
            <a:ext cx="2139480" cy="2275920"/>
            <a:chOff x="2566800" y="4419720"/>
            <a:chExt cx="2139480" cy="2275920"/>
          </a:xfrm>
        </p:grpSpPr>
        <p:sp>
          <p:nvSpPr>
            <p:cNvPr id="119" name=""/>
            <p:cNvSpPr/>
            <p:nvPr/>
          </p:nvSpPr>
          <p:spPr>
            <a:xfrm>
              <a:off x="2879640" y="4419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 o d e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616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4840" y="4809960"/>
              <a:ext cx="0" cy="18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6160" y="509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6160" y="54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6800" y="5829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76160" y="620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4840" y="4800240"/>
              <a:ext cx="172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889600" y="485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 e  l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19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 cs dc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36880" y="483084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48308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53355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D990-2603-4D97-AA77-44A175C1C1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7T02:47:38Z</dcterms:modified>
  <cp:revision>48</cp:revision>
  <dc:subject/>
  <dc:title>CAP Cryptographic Analysis Program</dc:title>
</cp:coreProperties>
</file>