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912D-7DD9-4A72-B9EA-C2477351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DD92-23CE-48DD-B521-ADF35627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060F-ED8F-4A4A-8875-8BF077B2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9586-09FE-46D5-9504-AE4689F6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CD82-277F-4585-A044-439B28F6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55E5-FF42-4A4C-81C9-E5989EBE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5787-7A0F-497B-8E9C-96787A73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3C49-E004-488B-A12F-85235222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4377-9B20-4442-BA0B-D4C0DDD0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4A87-7576-43C7-9371-7EFBB543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AE98-3A65-4513-851C-CD56447C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C47A-5E21-416B-81F7-55E97F7A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EEF0-4186-426E-83CC-396BE6ED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4A1C-0DF5-4486-9E07-04B474BC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A344-0A6D-46DB-BDA1-CA1B4DC0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59A3-BEEC-4E65-99B2-D8F6BE4F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F366-FE6E-4B40-97E4-B1324C81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6DBC-5983-4202-89BF-85BDDE79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63EF-A1B4-46EE-A21C-2282D3FB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BD6C-194E-459A-9EC8-7216AFA7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8B01-9F5F-451F-B5E3-AC3AEB24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7C61-18F7-4115-A655-9A7C9DD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1EE5-274E-4325-8159-5D9F7A97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425C-71F9-43C4-A510-267C989D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9C69-97A6-422C-A7C6-2E49931FD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1A9F-FF3B-4F31-B648-45141EF0C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to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or wired codewheel is a building block of a variety of polyalphabet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is a disk with electrical contacts, one for each letter of the alphabet around th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path of the wires defines a monoalphabetic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7760" y="4065480"/>
            <a:ext cx="1523880" cy="2590920"/>
            <a:chOff x="7367760" y="4065480"/>
            <a:chExt cx="1523880" cy="2590920"/>
          </a:xfrm>
        </p:grpSpPr>
        <p:sp>
          <p:nvSpPr>
            <p:cNvPr id="116" name=""/>
            <p:cNvSpPr/>
            <p:nvPr/>
          </p:nvSpPr>
          <p:spPr>
            <a:xfrm>
              <a:off x="7367760" y="4065480"/>
              <a:ext cx="1523880" cy="259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520040" y="4141800"/>
              <a:ext cx="1295640" cy="2438280"/>
              <a:chOff x="7520040" y="4141800"/>
              <a:chExt cx="1295640" cy="243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7672680" y="41418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663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0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63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20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20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663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0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63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0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3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72680" y="4522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53560" y="45226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8043840" y="589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72680" y="4960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48760" y="45223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339400" y="45226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62960" y="5446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48760" y="54464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48760" y="63799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62960" y="59227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234640" y="49989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34640" y="4998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82040" y="63421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8520120" y="54370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519760" y="54464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611600" y="4581360"/>
            <a:ext cx="2149560" cy="2149560"/>
            <a:chOff x="4611600" y="4581360"/>
            <a:chExt cx="2149560" cy="2149560"/>
          </a:xfrm>
        </p:grpSpPr>
        <p:sp>
          <p:nvSpPr>
            <p:cNvPr id="145" name=""/>
            <p:cNvSpPr/>
            <p:nvPr/>
          </p:nvSpPr>
          <p:spPr>
            <a:xfrm>
              <a:off x="4611600" y="4581360"/>
              <a:ext cx="2149560" cy="214956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8160" y="4883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8160" y="636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0440" y="5605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0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65880" y="560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3200" y="61578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48080" y="61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5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139A-F2C6-4969-8B87-9580CBC13E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R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7840" y="1852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rotors are connected and rotated at different 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960" y="3274920"/>
            <a:ext cx="830592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29000" y="3397320"/>
            <a:ext cx="3250440" cy="2844360"/>
            <a:chOff x="729000" y="3397320"/>
            <a:chExt cx="3250440" cy="2844360"/>
          </a:xfrm>
        </p:grpSpPr>
        <p:grpSp>
          <p:nvGrpSpPr>
            <p:cNvPr id="158" name=""/>
            <p:cNvGrpSpPr/>
            <p:nvPr/>
          </p:nvGrpSpPr>
          <p:grpSpPr>
            <a:xfrm>
              <a:off x="1028880" y="3803400"/>
              <a:ext cx="1295640" cy="2438280"/>
              <a:chOff x="1028880" y="3803400"/>
              <a:chExt cx="129564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1181520" y="38034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71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8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71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8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71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8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71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28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71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81520" y="418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62400" y="41842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552680" y="55558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81520" y="4622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857600" y="41839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848240" y="41842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1800" y="51080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57600" y="51080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7600" y="60415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1800" y="55843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743480" y="46605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43480" y="46605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90880" y="60037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028960" y="50986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028600" y="51080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352960" y="3794040"/>
              <a:ext cx="1294920" cy="2437920"/>
              <a:chOff x="2352960" y="3794040"/>
              <a:chExt cx="1294920" cy="243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2505240" y="3794040"/>
                <a:ext cx="990000" cy="243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560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296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9560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5296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296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9560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296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9560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296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60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05240" y="417456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86120" y="4174560"/>
                <a:ext cx="0" cy="13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876760" y="554616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5240" y="4612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181320" y="417456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171600" y="417456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95520" y="5098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1320" y="509832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81320" y="603180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5520" y="55746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067200" y="4650480"/>
                <a:ext cx="0" cy="9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7200" y="4650840"/>
                <a:ext cx="4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4600" y="599400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352680" y="5088600"/>
                <a:ext cx="0" cy="90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3352680" y="509832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29000" y="3984480"/>
              <a:ext cx="345600" cy="2206080"/>
              <a:chOff x="729000" y="3984480"/>
              <a:chExt cx="345600" cy="2206080"/>
            </a:xfrm>
          </p:grpSpPr>
          <p:sp>
            <p:nvSpPr>
              <p:cNvPr id="213" name=""/>
              <p:cNvSpPr/>
              <p:nvPr/>
            </p:nvSpPr>
            <p:spPr>
              <a:xfrm>
                <a:off x="72936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900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936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936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900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633840" y="3984480"/>
              <a:ext cx="345600" cy="2206080"/>
              <a:chOff x="3633840" y="3984480"/>
              <a:chExt cx="345600" cy="2206080"/>
            </a:xfrm>
          </p:grpSpPr>
          <p:sp>
            <p:nvSpPr>
              <p:cNvPr id="219" name=""/>
              <p:cNvSpPr/>
              <p:nvPr/>
            </p:nvSpPr>
            <p:spPr>
              <a:xfrm>
                <a:off x="363420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3384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3420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420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3384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00480" y="340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3640" y="3397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190520" y="3527280"/>
            <a:ext cx="4189680" cy="2048040"/>
            <a:chOff x="1190520" y="3527280"/>
            <a:chExt cx="4189680" cy="2048040"/>
          </a:xfrm>
        </p:grpSpPr>
        <p:grpSp>
          <p:nvGrpSpPr>
            <p:cNvPr id="227" name=""/>
            <p:cNvGrpSpPr/>
            <p:nvPr/>
          </p:nvGrpSpPr>
          <p:grpSpPr>
            <a:xfrm>
              <a:off x="1190520" y="4184640"/>
              <a:ext cx="2305080" cy="1390680"/>
              <a:chOff x="1190520" y="4184640"/>
              <a:chExt cx="2305080" cy="1390680"/>
            </a:xfrm>
          </p:grpSpPr>
          <p:sp>
            <p:nvSpPr>
              <p:cNvPr id="228" name=""/>
              <p:cNvSpPr/>
              <p:nvPr/>
            </p:nvSpPr>
            <p:spPr>
              <a:xfrm>
                <a:off x="1190520" y="4184640"/>
                <a:ext cx="38088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62040" y="4184640"/>
                <a:ext cx="0" cy="13716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62040" y="5556240"/>
                <a:ext cx="5904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4240" y="5575320"/>
                <a:ext cx="5526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3066840" y="4650840"/>
                <a:ext cx="0" cy="9241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66840" y="4651200"/>
                <a:ext cx="4287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099320" y="352728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A goes t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29280" y="3359160"/>
            <a:ext cx="4626360" cy="2844720"/>
            <a:chOff x="4229280" y="3359160"/>
            <a:chExt cx="4626360" cy="2844720"/>
          </a:xfrm>
        </p:grpSpPr>
        <p:grpSp>
          <p:nvGrpSpPr>
            <p:cNvPr id="236" name=""/>
            <p:cNvGrpSpPr/>
            <p:nvPr/>
          </p:nvGrpSpPr>
          <p:grpSpPr>
            <a:xfrm>
              <a:off x="5614560" y="3946320"/>
              <a:ext cx="345600" cy="2206440"/>
              <a:chOff x="5614560" y="3946320"/>
              <a:chExt cx="345600" cy="2206440"/>
            </a:xfrm>
          </p:grpSpPr>
          <p:sp>
            <p:nvSpPr>
              <p:cNvPr id="237" name=""/>
              <p:cNvSpPr/>
              <p:nvPr/>
            </p:nvSpPr>
            <p:spPr>
              <a:xfrm>
                <a:off x="5614920" y="39463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4560" y="4394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14920" y="487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14920" y="532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14560" y="5784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29280" y="3359160"/>
              <a:ext cx="4626360" cy="2844720"/>
              <a:chOff x="4229280" y="3359160"/>
              <a:chExt cx="4626360" cy="2844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29280" y="5013360"/>
                <a:ext cx="111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72480" y="471312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otate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y 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5905440" y="3359160"/>
                <a:ext cx="2950200" cy="2844720"/>
                <a:chOff x="5905440" y="3359160"/>
                <a:chExt cx="2950200" cy="2844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385680" y="3368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5905440" y="3359160"/>
                  <a:ext cx="2950200" cy="2844720"/>
                  <a:chOff x="5905440" y="3359160"/>
                  <a:chExt cx="2950200" cy="284472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905440" y="3359160"/>
                    <a:ext cx="2950200" cy="2844720"/>
                    <a:chOff x="5905440" y="3359160"/>
                    <a:chExt cx="2950200" cy="284472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5905440" y="3765600"/>
                      <a:ext cx="1294560" cy="2438280"/>
                      <a:chOff x="5905440" y="3765600"/>
                      <a:chExt cx="1294560" cy="243828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057720" y="3765600"/>
                        <a:ext cx="989640" cy="243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04772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590544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04772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90544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590544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04772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90544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704772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590544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704772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057720" y="4146480"/>
                        <a:ext cx="38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438600" y="4146480"/>
                        <a:ext cx="0" cy="1371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flipH="1">
                        <a:off x="6429240" y="551808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057720" y="458460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V="1">
                        <a:off x="6733440" y="4146120"/>
                        <a:ext cx="0" cy="43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H="1">
                        <a:off x="6723720" y="4146480"/>
                        <a:ext cx="333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048000" y="507024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6733440" y="5070240"/>
                        <a:ext cx="0" cy="943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6733440" y="6003720"/>
                        <a:ext cx="323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048000" y="5546520"/>
                        <a:ext cx="57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flipV="1">
                        <a:off x="6619320" y="4622760"/>
                        <a:ext cx="0" cy="923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619320" y="4622760"/>
                        <a:ext cx="437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067080" y="5965920"/>
                        <a:ext cx="837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flipV="1">
                        <a:off x="6904800" y="5060880"/>
                        <a:ext cx="0" cy="905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flipH="1">
                        <a:off x="6904800" y="5070240"/>
                        <a:ext cx="14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381440" y="3755880"/>
                      <a:ext cx="990360" cy="243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372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229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72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229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229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372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229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372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229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372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1440" y="4137120"/>
                      <a:ext cx="380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8057520" y="4137120"/>
                      <a:ext cx="33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8510040" y="3946320"/>
                      <a:ext cx="345600" cy="2206440"/>
                      <a:chOff x="8510040" y="3946320"/>
                      <a:chExt cx="345600" cy="220644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8510040" y="394632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E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8510400" y="439416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510040" y="487008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8510400" y="53272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8510400" y="57844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719480" y="33591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762320" y="4137120"/>
                      <a:ext cx="0" cy="137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>
                      <a:off x="7657560" y="5994360"/>
                      <a:ext cx="714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381440" y="4603680"/>
                      <a:ext cx="275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381440" y="5060880"/>
                      <a:ext cx="495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>
                      <a:off x="7876440" y="4584600"/>
                      <a:ext cx="504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391160" y="5946840"/>
                      <a:ext cx="732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>
                      <a:off x="8105040" y="5051520"/>
                      <a:ext cx="25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>
                      <a:off x="7761960" y="5508720"/>
                      <a:ext cx="609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57560" y="4603680"/>
                      <a:ext cx="0" cy="1390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V="1">
                      <a:off x="7886160" y="4574880"/>
                      <a:ext cx="0" cy="485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V="1">
                      <a:off x="7552800" y="4250880"/>
                      <a:ext cx="0" cy="126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552800" y="4251240"/>
                      <a:ext cx="523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67240" y="4146480"/>
                      <a:ext cx="0" cy="114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8114760" y="5051520"/>
                      <a:ext cx="0" cy="895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0" name=""/>
                  <p:cNvSpPr/>
                  <p:nvPr/>
                </p:nvSpPr>
                <p:spPr>
                  <a:xfrm>
                    <a:off x="7353000" y="5508720"/>
                    <a:ext cx="19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1" name=""/>
          <p:cNvGrpSpPr/>
          <p:nvPr/>
        </p:nvGrpSpPr>
        <p:grpSpPr>
          <a:xfrm>
            <a:off x="6058080" y="4136760"/>
            <a:ext cx="2323440" cy="1381320"/>
            <a:chOff x="6058080" y="4136760"/>
            <a:chExt cx="2323440" cy="1381320"/>
          </a:xfrm>
        </p:grpSpPr>
        <p:sp>
          <p:nvSpPr>
            <p:cNvPr id="312" name=""/>
            <p:cNvSpPr/>
            <p:nvPr/>
          </p:nvSpPr>
          <p:spPr>
            <a:xfrm>
              <a:off x="6058080" y="4146480"/>
              <a:ext cx="371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38600" y="4146480"/>
              <a:ext cx="0" cy="13716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8600" y="5518080"/>
              <a:ext cx="6188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160" y="5508720"/>
              <a:ext cx="161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53160" y="4250880"/>
              <a:ext cx="0" cy="1257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160" y="4251240"/>
              <a:ext cx="514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67600" y="4136760"/>
              <a:ext cx="0" cy="114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7600" y="4137120"/>
              <a:ext cx="3139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118760" y="387036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o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 goes t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C6EB-9736-4BE4-BE96-B784C0042D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s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 provides a rotor type ci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otor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54280" y="340524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F843-16CA-4F23-8C37-D926845DC6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5T01:41:34Z</dcterms:modified>
  <cp:revision>66</cp:revision>
  <dc:subject/>
  <dc:title>CAP Cryptographic Analysis Program</dc:title>
</cp:coreProperties>
</file>