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5CD1-BCA5-4E0A-85F4-1B8C4DFD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5281-7EE3-464D-9DD3-2B0ADEED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C0D0-73FE-4B20-842D-AD178F22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2809-164C-46A5-A372-5410B7D7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5C9E-526E-41C3-8CCF-A806A3A5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A7DE-9149-4F02-9E5C-4C27A3E8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8E15-0D38-45BE-AEA8-543893AA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AD4-89E1-478C-8405-87D987D9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7BA6-1935-4745-BE47-0867372D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EB94-761B-4313-B7C1-626F1C10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F680-FE27-4A4F-A46D-07A41C4C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8866-9286-4D19-BD03-DA91D9A3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D08F-0AB5-47B8-AE67-AA018411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2097-065B-4AD0-9434-F2C21A63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36C0-AF6B-4907-AA3E-EF1B952A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4F51-6850-46C6-9B0C-31A30921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1B52-360C-4A7C-92DE-403127FB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0FE3-D7AB-482C-A0F3-AE371E29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9AA8-9E94-454E-A9E1-D5301DB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3D00-7F99-4543-A6A8-476CB9F2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081E-5FD8-4ACA-842E-67272DBD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E8BC-CA20-4322-A71A-DE8210DD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66FC-012F-46B6-87CF-22CEE84A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228D-B09C-4B43-B600-EB73909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4DC9-073B-4F71-B580-A1C65A475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CD40-2693-4812-AF8A-FF915150E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0280" y="16506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attack can match the word with the ciphertext to discover the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8720" y="2367000"/>
            <a:ext cx="1087200" cy="449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1360" y="2690640"/>
            <a:ext cx="4805640" cy="408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08080" y="4033800"/>
            <a:ext cx="1155960" cy="59220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5040" y="2819520"/>
            <a:ext cx="1155600" cy="59184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792C-87C6-46A6-A03D-9060FFA3D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5:16Z</dcterms:modified>
  <cp:revision>68</cp:revision>
  <dc:subject/>
  <dc:title>CAP Cryptographic Analysis Program</dc:title>
</cp:coreProperties>
</file>