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EF7FA-FB8D-4E11-8C5F-4B6CB34E2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98D33-DBF1-4A10-8DFE-0A8C7A75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130FE-6569-4D40-BB3F-6F7E19DF0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C1C3A-EB09-4B30-91B7-88D356BE9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2DA0-0339-4580-8007-3AEB4FF04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3BE9-C3DA-451E-B1CC-1C5542A1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1D64-C6BE-4BD3-92F4-70819FA6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D564-34F3-49CB-8EDB-D0332248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D2E4C-46C9-4F08-A724-9936E1D3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30F89-F4A0-4BFE-AA31-B1C62BFE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C940-B133-4080-9278-86714D15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5D131-ACC5-41C3-AB27-7300E30A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B4FF-59DC-4184-A595-EEC1C738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C1BD-CC7C-401C-A4E0-AFA058E3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7D21-D109-4FD7-AB65-F80F45B7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FCBA-AAD7-4DEF-9AB1-57161E68A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9A0A-4C4F-4E1A-A275-E8E7378C1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D8B9A-A274-49A0-99A3-F4DF65D3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4703C-82C6-40FC-A6F3-EA86B68F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67845-0B11-4FF5-8475-50EF79CF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C0952-40B0-46A6-A080-05B6C39A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9FAA4-616C-452F-B413-A139C72B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2BBBA-985B-4EE7-8AA2-9338312E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2A6C2-3E77-4F90-BC4E-7A216100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4C5E-E70B-4BCB-8E70-857DED5D2B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F940-ABAE-416D-A4EB-A675BF38DA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ing Autokey-Plaintext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536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the Autokey-Plain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not as easy to break as the autokey-ciphertext but . . 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Kasiski-like method exists to determine the “group length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oup-length is the actual keyword length but since the keyword is not repeated, the group-length describes the length of segments of the running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segments define the distance between a plaintext letter being enciphered and becoming a key l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660E9-09A2-437E-BD8D-71E570ED2D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example, if the keyword is “alice” a possible cipher structure could be given 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04480" y="459576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 h i s i s a n e x a m p l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85400" y="413388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ourier New"/>
              </a:rPr>
              <a:t>a l i c e t h i s i s a n e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68280" y="4570560"/>
            <a:ext cx="2161800" cy="1532880"/>
            <a:chOff x="368280" y="4570560"/>
            <a:chExt cx="2161800" cy="1532880"/>
          </a:xfrm>
        </p:grpSpPr>
        <p:sp>
          <p:nvSpPr>
            <p:cNvPr id="120" name=""/>
            <p:cNvSpPr/>
            <p:nvPr/>
          </p:nvSpPr>
          <p:spPr>
            <a:xfrm>
              <a:off x="957240" y="4570560"/>
              <a:ext cx="685800" cy="6570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8280" y="5643720"/>
              <a:ext cx="216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t is encipher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208320" y="4094280"/>
            <a:ext cx="2148120" cy="2052000"/>
            <a:chOff x="3208320" y="4094280"/>
            <a:chExt cx="2148120" cy="2052000"/>
          </a:xfrm>
        </p:grpSpPr>
        <p:sp>
          <p:nvSpPr>
            <p:cNvPr id="123" name=""/>
            <p:cNvSpPr/>
            <p:nvPr/>
          </p:nvSpPr>
          <p:spPr>
            <a:xfrm>
              <a:off x="3381480" y="4094280"/>
              <a:ext cx="685800" cy="6570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ff"/>
                  </a:solidFill>
                  <a:latin typeface="Courier New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08320" y="5686560"/>
              <a:ext cx="21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t is a key let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257480" y="3571920"/>
            <a:ext cx="2438280" cy="641160"/>
            <a:chOff x="1257480" y="3571920"/>
            <a:chExt cx="2438280" cy="641160"/>
          </a:xfrm>
        </p:grpSpPr>
        <p:sp>
          <p:nvSpPr>
            <p:cNvPr id="126" name=""/>
            <p:cNvSpPr/>
            <p:nvPr/>
          </p:nvSpPr>
          <p:spPr>
            <a:xfrm>
              <a:off x="1257480" y="3741840"/>
              <a:ext cx="0" cy="471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95760" y="3722760"/>
              <a:ext cx="0" cy="471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357200" y="3941640"/>
              <a:ext cx="22575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10120" y="3571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E2B37-D44C-429F-93A2-4E1CC950FF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75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 the Group 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15400" cy="26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possible to discover the group length from the cipher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the group length is 5 then every plaintext letter will be enciphered by the letter 5 positions to its left and in turn will encipher the letter 5 positions to its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plaintext has a lot of repeated characters there will be an unusually large number of identical letters separated by the group lengt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4735440"/>
            <a:ext cx="621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Key:     . . . R . . .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aintext:     . . . S . . .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iphertext:     . . . J . . .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251320" y="4803840"/>
            <a:ext cx="1793880" cy="709560"/>
            <a:chOff x="5251320" y="4803840"/>
            <a:chExt cx="1793880" cy="709560"/>
          </a:xfrm>
        </p:grpSpPr>
        <p:sp>
          <p:nvSpPr>
            <p:cNvPr id="134" name=""/>
            <p:cNvSpPr/>
            <p:nvPr/>
          </p:nvSpPr>
          <p:spPr>
            <a:xfrm>
              <a:off x="5251320" y="5167440"/>
              <a:ext cx="336240" cy="34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708600" y="4803840"/>
              <a:ext cx="336600" cy="34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5587560" y="5051160"/>
              <a:ext cx="109224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499000" y="4667400"/>
            <a:ext cx="3470400" cy="1191240"/>
            <a:chOff x="5499000" y="4667400"/>
            <a:chExt cx="3470400" cy="1191240"/>
          </a:xfrm>
        </p:grpSpPr>
        <p:sp>
          <p:nvSpPr>
            <p:cNvPr id="138" name=""/>
            <p:cNvSpPr/>
            <p:nvPr/>
          </p:nvSpPr>
          <p:spPr>
            <a:xfrm>
              <a:off x="6707160" y="5165640"/>
              <a:ext cx="355680" cy="3556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9000" y="5024520"/>
              <a:ext cx="119880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15400" y="4667400"/>
              <a:ext cx="185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There is a go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chance that th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kind of event wi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occ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383080" y="5823000"/>
            <a:ext cx="1499040" cy="455760"/>
            <a:chOff x="5383080" y="5823000"/>
            <a:chExt cx="1499040" cy="455760"/>
          </a:xfrm>
        </p:grpSpPr>
        <p:sp>
          <p:nvSpPr>
            <p:cNvPr id="142" name=""/>
            <p:cNvSpPr/>
            <p:nvPr/>
          </p:nvSpPr>
          <p:spPr>
            <a:xfrm>
              <a:off x="5410440" y="5823000"/>
              <a:ext cx="0" cy="284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37440" y="5919840"/>
              <a:ext cx="139356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77080" y="5824440"/>
              <a:ext cx="0" cy="2844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383080" y="5910480"/>
              <a:ext cx="149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Group leng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2A2FA-5FAD-43E3-9A5F-95DC9A8A6C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5786280" cy="24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distances between all letter repeti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st common distances are strong candidates for the group-lengt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 will automatically calculate these distan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584680" y="3376440"/>
            <a:ext cx="2571840" cy="302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4D0D4-034A-4FD6-A89E-8D2651949C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he Group 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36320" y="2055600"/>
            <a:ext cx="8250120" cy="26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of the group length reveals how the plaintext is divided into seg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group length is 5, then the first segment consists of every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tter beginning with the first let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know the encipher chain for this segment, 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06120" y="515448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 h i s i s a n e x a m p l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96760" y="469260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ourier New"/>
              </a:rPr>
              <a:t>a l i c e t h i s i s a n e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41040" y="562608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urier New"/>
              </a:rPr>
              <a:t>t s q u m l h v w f s m c p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893880" y="5019480"/>
            <a:ext cx="2547360" cy="586080"/>
            <a:chOff x="893880" y="5019480"/>
            <a:chExt cx="2547360" cy="586080"/>
          </a:xfrm>
        </p:grpSpPr>
        <p:sp>
          <p:nvSpPr>
            <p:cNvPr id="155" name=""/>
            <p:cNvSpPr/>
            <p:nvPr/>
          </p:nvSpPr>
          <p:spPr>
            <a:xfrm>
              <a:off x="893880" y="5203800"/>
              <a:ext cx="401400" cy="4017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1303200" y="5019480"/>
              <a:ext cx="2138040" cy="33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788080" y="5259240"/>
            <a:ext cx="401760" cy="4017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354480" y="5010120"/>
            <a:ext cx="2555280" cy="622440"/>
            <a:chOff x="3354480" y="5010120"/>
            <a:chExt cx="2555280" cy="622440"/>
          </a:xfrm>
        </p:grpSpPr>
        <p:sp>
          <p:nvSpPr>
            <p:cNvPr id="159" name=""/>
            <p:cNvSpPr/>
            <p:nvPr/>
          </p:nvSpPr>
          <p:spPr>
            <a:xfrm>
              <a:off x="3354480" y="5230800"/>
              <a:ext cx="401400" cy="4017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87560" y="5010120"/>
              <a:ext cx="2122200" cy="35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903240" y="5694480"/>
            <a:ext cx="434880" cy="434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46560" y="5678640"/>
            <a:ext cx="434880" cy="434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07160" y="5697360"/>
            <a:ext cx="434880" cy="4352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42FFA-ED11-464A-BFDC-59DE13D6A8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75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ute Force Att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70760" cy="17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use a brute force attack because each segment is defined by its beginning character (which is from the key word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36440" y="3916440"/>
            <a:ext cx="759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Ciphertext (known)    Key character (unknown)   plaintext (unknow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24480" y="4197240"/>
            <a:ext cx="52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                            ?                         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33480" y="4583160"/>
            <a:ext cx="52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l                            ?                         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01440" y="5016600"/>
            <a:ext cx="53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                            ?                         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280040" y="3500280"/>
            <a:ext cx="1342800" cy="1148760"/>
            <a:chOff x="4280040" y="3500280"/>
            <a:chExt cx="1342800" cy="1148760"/>
          </a:xfrm>
        </p:grpSpPr>
        <p:sp>
          <p:nvSpPr>
            <p:cNvPr id="171" name=""/>
            <p:cNvSpPr/>
            <p:nvPr/>
          </p:nvSpPr>
          <p:spPr>
            <a:xfrm>
              <a:off x="4280040" y="418932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81440" y="3500280"/>
              <a:ext cx="941400" cy="647640"/>
            </a:xfrm>
            <a:prstGeom prst="wedgeRoundRectCallout">
              <a:avLst>
                <a:gd name="adj1" fmla="val -44773"/>
                <a:gd name="adj2" fmla="val 70097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u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6755760" y="4179960"/>
            <a:ext cx="266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308120" y="4397400"/>
            <a:ext cx="2370600" cy="626400"/>
            <a:chOff x="4308120" y="4397400"/>
            <a:chExt cx="2370600" cy="626400"/>
          </a:xfrm>
        </p:grpSpPr>
        <p:sp>
          <p:nvSpPr>
            <p:cNvPr id="175" name=""/>
            <p:cNvSpPr/>
            <p:nvPr/>
          </p:nvSpPr>
          <p:spPr>
            <a:xfrm flipH="1">
              <a:off x="4662720" y="4397400"/>
              <a:ext cx="2016000" cy="37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308120" y="4564080"/>
              <a:ext cx="2660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287960" y="4956120"/>
            <a:ext cx="2788560" cy="551880"/>
            <a:chOff x="4287960" y="4956120"/>
            <a:chExt cx="2788560" cy="551880"/>
          </a:xfrm>
        </p:grpSpPr>
        <p:sp>
          <p:nvSpPr>
            <p:cNvPr id="178" name=""/>
            <p:cNvSpPr/>
            <p:nvPr/>
          </p:nvSpPr>
          <p:spPr>
            <a:xfrm>
              <a:off x="6726600" y="495612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87960" y="5048280"/>
              <a:ext cx="33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295160" y="4578480"/>
            <a:ext cx="2749680" cy="459720"/>
            <a:chOff x="4295160" y="4578480"/>
            <a:chExt cx="2749680" cy="459720"/>
          </a:xfrm>
        </p:grpSpPr>
        <p:sp>
          <p:nvSpPr>
            <p:cNvPr id="181" name=""/>
            <p:cNvSpPr/>
            <p:nvPr/>
          </p:nvSpPr>
          <p:spPr>
            <a:xfrm>
              <a:off x="4295160" y="4578480"/>
              <a:ext cx="2660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11840" y="4578480"/>
              <a:ext cx="33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307040" y="4822920"/>
            <a:ext cx="2442960" cy="658080"/>
            <a:chOff x="4307040" y="4822920"/>
            <a:chExt cx="2442960" cy="658080"/>
          </a:xfrm>
        </p:grpSpPr>
        <p:sp>
          <p:nvSpPr>
            <p:cNvPr id="184" name=""/>
            <p:cNvSpPr/>
            <p:nvPr/>
          </p:nvSpPr>
          <p:spPr>
            <a:xfrm flipH="1">
              <a:off x="4751280" y="4822920"/>
              <a:ext cx="1998720" cy="37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07040" y="5021280"/>
              <a:ext cx="33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360440" y="4466880"/>
            <a:ext cx="2921040" cy="1806120"/>
            <a:chOff x="1360440" y="4466880"/>
            <a:chExt cx="2921040" cy="1806120"/>
          </a:xfrm>
        </p:grpSpPr>
        <p:sp>
          <p:nvSpPr>
            <p:cNvPr id="187" name=""/>
            <p:cNvSpPr/>
            <p:nvPr/>
          </p:nvSpPr>
          <p:spPr>
            <a:xfrm>
              <a:off x="1360440" y="5813280"/>
              <a:ext cx="26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ry all 26 gues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038400" y="4466880"/>
              <a:ext cx="1243080" cy="14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516640" y="5371920"/>
            <a:ext cx="2940840" cy="1489320"/>
            <a:chOff x="5516640" y="5371920"/>
            <a:chExt cx="2940840" cy="1489320"/>
          </a:xfrm>
        </p:grpSpPr>
        <p:sp>
          <p:nvSpPr>
            <p:cNvPr id="190" name=""/>
            <p:cNvSpPr/>
            <p:nvPr/>
          </p:nvSpPr>
          <p:spPr>
            <a:xfrm>
              <a:off x="5516640" y="6035760"/>
              <a:ext cx="2940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se a low frequency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haracter te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6900840" y="5371920"/>
              <a:ext cx="0" cy="73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5B870-D27D-4F33-8E6C-F5C9787343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24T03:28:15Z</dcterms:modified>
  <cp:revision>64</cp:revision>
  <dc:subject/>
  <dc:title>CAP Cryptographic Analysis Program</dc:title>
</cp:coreProperties>
</file>