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0D63-25DA-49B5-9879-CFA790B4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8D48-4869-4721-A685-6661E534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D029C-FA21-4B3A-9125-2D5FC6FC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E4492-69D5-44AF-873F-F8E78CBF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AB0A-1369-4518-8CDB-4FF355B6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E262-CF48-445F-986C-4B14F09F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7EFD-43A3-4FE8-BDAA-9670EAB3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B0D8-155F-4CEF-978E-76285703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D4D2-CE18-4C1A-95AB-284D6233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6552-CB73-437A-993B-22A828B8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1BA5-B90C-4943-8465-B66AE0CA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8514-045F-495F-96A0-3039B232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C86A-97FE-4CD1-A585-161A9476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B4C7-9A61-411D-89CE-B0ECD6FB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6EC1-ABA1-4F0D-A05A-A2E364B3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EA5E-6ABC-4550-846E-8C386CF4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C5CC-905D-4FF9-BAE4-608A434D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9BFED-BB04-4BD8-8908-F5F2F5F8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701D8-E7C1-44D4-B1F1-C3236444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A148-3361-4B00-AA49-4AC3AC4D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DA583-C855-4D1C-A800-A2355A1C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D624A-17B4-4D33-A898-D5F69B39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1E85-AA4E-4EE5-AAFE-B08F2CA3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FABD4-8476-4C4E-8D74-22CA3D0C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0847-434A-496E-99F2-7500431736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95A8-2F75-4D23-9A6C-15708C4BFB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Playfai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a Playfair Cip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87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characteristics of Playfair ciphertext that can be useful in identifying it as a Playfai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it is a substitution system, the rare consonants j, k, q, x, and z will appear in higher frequencies than plaintext and digraphs containing these consonants will appear more 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n even number of letters in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iphertext is broken up into digrams, doubled letters such as SS, EE, MM, . . . will not 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7167-3E62-4C0F-B1C5-D56E1FB402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4360" y="209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680" y="1346040"/>
            <a:ext cx="74563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help in the process of identifying a Playfair (or other polygraphic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5240" y="2200320"/>
            <a:ext cx="1193760" cy="465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67000" y="2838600"/>
            <a:ext cx="5742000" cy="3806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71560" y="3067200"/>
            <a:ext cx="1095480" cy="657000"/>
          </a:xfrm>
          <a:prstGeom prst="wedgeRoundRectCallout">
            <a:avLst>
              <a:gd name="adj1" fmla="val -42319"/>
              <a:gd name="adj2" fmla="val 67634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72037-1E3E-44B9-81BA-31F26A3E81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7T03:22:54Z</dcterms:modified>
  <cp:revision>65</cp:revision>
  <dc:subject/>
  <dc:title>CAP Cryptographic Analysis Program</dc:title>
</cp:coreProperties>
</file>