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BEF1-93E3-4472-ACD5-E89CB9C8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4A4C-8E86-4C44-9AA1-8B81730A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BD03-F7EF-4795-9101-8581884F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6E45-7CF9-4246-B5D3-DFDBDE26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0661-3BD2-4301-B30A-0B0FFC71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A478-AED7-44B9-AC9E-0BBF3F47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1008-2A3E-4BC9-A6AA-88F95453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DE9F-F560-4211-8EF6-96B237C8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82FB-A41C-4E27-9E51-DC15AE60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25F2-3A50-4E3A-ABD9-A51BEE77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B701-CD2C-42A3-95F3-F2B3EFB8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2E5E-9E54-4DC7-94E0-35B8AA6E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8451-645F-4F6D-919E-B3A0934D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6F68-FDC1-4A85-A094-D8E7DA80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A77C-A46F-4E8F-A545-94F9A29B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E6CD-238E-47BB-B781-4F3646BE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4C6A-06F9-48D2-9575-0E6B6EC6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CD8E-629E-4C44-9F14-3879A0FB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24FB-E50B-4353-8C5C-EA92CDFA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B86E-8AD0-48B0-BD52-31CA60E5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7BF0-7879-451A-AC04-94ED1E31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C70F-4C8A-4C1F-A9A4-900145E5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957B-5C5E-4FFB-927B-C8A28D15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A11C-EAEF-4B14-9596-32D0633B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80EA-6D0F-48FE-BBD6-19F9D5ACA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BB7F-3926-4D01-87C0-870C3880D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FGVX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FGVX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ipher involves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trans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stitution involves a 6 x 6 square where the rows and columns are labeled by the letters ADFGV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etters were selected because they are easy to distinguish as Mors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position is a simple column transposition based on a key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4803-359D-43D1-B0B8-A63AB449C5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13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letters and 10 digits are entered into a 6 x 6 matrix using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86400" y="2971800"/>
            <a:ext cx="2786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D  F  G  V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1680" y="304812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eyword:  when2go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35053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  h  e  n  2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657600"/>
            <a:ext cx="32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nter the keyword and then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ill in the rest of the matrix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sing the unused letters and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mbers i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320" y="4070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  9  3  a  b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4320" y="4603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 f  i  j  k 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2520" y="5159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  p  q  r  s 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33160" y="57150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  v  x  y  z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31360" y="62564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 4  5  6  7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53400" y="6272280"/>
            <a:ext cx="100944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7A82-9DA1-4DFB-8DC1-4E5A4F565C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7400" y="1774440"/>
            <a:ext cx="761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tter and number in the plaintext is replaced by the letters on the column and row headings of th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86400" y="2971800"/>
            <a:ext cx="2970360" cy="3660120"/>
            <a:chOff x="986400" y="2971800"/>
            <a:chExt cx="2970360" cy="3660120"/>
          </a:xfrm>
        </p:grpSpPr>
        <p:sp>
          <p:nvSpPr>
            <p:cNvPr id="130" name=""/>
            <p:cNvSpPr/>
            <p:nvPr/>
          </p:nvSpPr>
          <p:spPr>
            <a:xfrm>
              <a:off x="986400" y="2971800"/>
              <a:ext cx="278676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  D  F  G  V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8200" y="35053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  h  e  n  2 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4320" y="4070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  9  3  a  b 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4320" y="460368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  f  i  j  k  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2520" y="5159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  p  q  r  s  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33160" y="57150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  v  x  y  z 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31360" y="625644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  4  5  6  7  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383720" y="4219560"/>
            <a:ext cx="40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text:   n   e   x   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hertext:   AG  AF  VF  G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75360" y="6219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239E-99CD-4154-8856-3FD50A9F45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lumn transposition with a keyword, the ciphertext is written in rows and then read in columns in a specified o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4322880"/>
            <a:ext cx="16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A G G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X G F X D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V A A D X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 G D G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G A V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0240" y="5178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57920" y="4707000"/>
            <a:ext cx="25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d down columns in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 – 6 - 1- 2 – 5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7480" y="48848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FADG VXXGG AXVFA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GAGF GDXXV GXD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7083360" y="6124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8691-7025-45BA-BFDD-C7DE5F277F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8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 both of which are determined by a keyw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 because it has 7 let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19880" y="5411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05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081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29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555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3224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128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8320" y="603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61800" y="60642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E57E-B699-4A39-9A36-16BB2D8C0D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DFGVX cipher from the cipher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7360" y="2962440"/>
            <a:ext cx="5691240" cy="3695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56480" y="3432240"/>
            <a:ext cx="1238040" cy="696960"/>
          </a:xfrm>
          <a:prstGeom prst="wedgeRoundRectCallout">
            <a:avLst>
              <a:gd name="adj1" fmla="val -42819"/>
              <a:gd name="adj2" fmla="val 1060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keyword sets up th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2760" y="4452840"/>
            <a:ext cx="1384200" cy="851040"/>
          </a:xfrm>
          <a:prstGeom prst="wedgeRoundRectCallout">
            <a:avLst>
              <a:gd name="adj1" fmla="val -43578"/>
              <a:gd name="adj2" fmla="val 95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keyword sets up colum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93680" y="6205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400E-A120-40FF-AFA8-C0800A6CA7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9T01:54:56Z</dcterms:modified>
  <cp:revision>40</cp:revision>
  <dc:subject/>
  <dc:title>CAP Cryptographic Analysis Program</dc:title>
</cp:coreProperties>
</file>