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BB8DB-F9E0-4232-8D4F-0E394A48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29C04-6650-4BA3-8D64-A4A440AC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05E22-F1AE-473D-8BE5-D2773E31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BC415-EDF4-4F3A-B64C-ACBCB338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991E-E908-4F80-9462-67B2C4C1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E518-796E-482E-AEFF-8846DAE5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2C36-E6A3-4D41-BBA3-8FAEF2F9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C7A8-18F1-4A12-B74A-C352B454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A9DA-3931-4C38-B446-CF2A67A8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9194-F551-4BAA-AED7-0BAE14B8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A136-8F88-414A-B671-20145C69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39D0B-B326-4395-88E3-1910146E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24F1-7CA6-48D7-AD49-9833CF53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9872-2764-4C08-B124-DEAEFD26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EB61-C35F-467D-9430-B4C1EB1C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213A-CF46-447E-ACAB-A5A8E7E8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B416-0C4D-4066-9179-EB4C85E5A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0FC74-52A7-444B-8449-F8B36FF9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E30EB-1317-4B99-99A6-5F3A19A1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70CB8-4542-4B0B-9538-4E8C3ABF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F397D-E79C-46EC-82B1-4F359464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B6F63-069E-4F06-9964-6842DA0A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24787-C7E9-43E5-8CB6-E40A515B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FCDC6-DE6A-4A05-B1B6-DCBFC472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4387-12F7-44FE-AA64-55E3936FA5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A27F-1132-4F92-870B-C8F5C90C51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Homophonic Cipher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a Homopho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7920" y="2123640"/>
            <a:ext cx="7932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mophonic cipher as presented has several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uld be subject to a dictionary attack since the key is just a four lett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number range (1-25, 26-50, 51-75, 76-100) could be subjected to a frequency analysis (CAP will allow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nown word or phrase could be compared to the ciphertext (CAP will run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4E015-BA88-48A8-96F7-2436956F7E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9000" y="4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Homophonic 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8844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P Homophonic worksheet will allow you to run a frequency breakdown of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60480" y="3070080"/>
            <a:ext cx="5456160" cy="3583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313000" y="2506680"/>
            <a:ext cx="1149480" cy="646200"/>
          </a:xfrm>
          <a:prstGeom prst="wedgeRoundRectCallout">
            <a:avLst>
              <a:gd name="adj1" fmla="val -46134"/>
              <a:gd name="adj2" fmla="val 68425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Fr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5AA44-8E01-4487-8E36-55178A6BD7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Possible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5680" y="2120760"/>
            <a:ext cx="8294760" cy="43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mophonic Possible Word window allows you to enter a known word and CAP will search for possible number matches based on three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number will not match two or more different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letter will not match two different numbers in the same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wo different letters match two different numbers in the same range, the difference between the numbers will match the difference between the two letters in their alphabetic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F7EAF-7FC5-458A-A7A0-97B15AD193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Work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ggested matches discovered in the Possible Word window can be entered into the worksheet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ing plaintext will be displayed and can be evalu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95FA0-40B0-40E2-B921-7E08A7131F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5-27T00:07:55Z</dcterms:modified>
  <cp:revision>74</cp:revision>
  <dc:subject/>
  <dc:title>CAP Cryptographic Analysis Program</dc:title>
</cp:coreProperties>
</file>