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532C-D9D7-41DC-994C-E8C4BFD6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B996-8250-4EF9-B168-5FCEAB5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F5C4-F188-454E-A73D-DBFD4310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AF15-4820-4D26-8F08-5F7236F7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CBDD-FF2A-4209-A8F3-ED68A1BE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555C-C8E5-460F-A8D5-EE791AFB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74C4-47B4-4AA1-A2A3-3BB55D07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DBA3-FA9F-4733-9A8A-7DFD7685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08B0-56E8-4F25-96DD-F3F2208F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D93A-1A45-4AAE-ADCA-5C38AC8C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8372-3872-40DF-86F0-A81BEE47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B5B6-219E-43D9-A9F0-77C3E3D4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D8B1-58D8-4012-9D12-C7AFECD0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6C7F-E6F9-4119-8AFC-6A215B2B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7613-08DB-4B84-BF15-7D2E0104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A4E7-2550-4001-84E1-B7E74D23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8430-850D-49AB-B1D9-8167F7F7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7157-8465-434B-966B-4407F5B0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2566-C5BA-4912-9EC2-AB1E4866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01B2-A482-46C3-A9F9-706FDC2E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87AC-7E1A-452F-9418-64137D53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9768-397A-472D-9AEB-769BB144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FA1E-8B12-441A-8C42-B8EBE607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6239-3EF4-4B0E-81CD-2CCB91FC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FD14-49BD-4B97-8995-32435F7F4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7CCF-3A5E-44B3-9B5A-ECC8477C35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0AB3-D482-4699-BD86-7E6CE96B16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3:02Z</dcterms:modified>
  <cp:revision>67</cp:revision>
  <dc:subject/>
  <dc:title>CAP Cryptographic Analysis Program</dc:title>
</cp:coreProperties>
</file>