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C5EF3-6072-4C50-B352-E2A049E95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E8281-4F2A-4499-A85B-54FC94B8C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1BCE2-A5E7-42FD-84AB-D664F3A48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C70F3-7DCB-407B-80B9-25F376496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BDC9D-9531-44DC-AEF3-BA971BFA0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9283E-739B-4341-839E-1FA333914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83974-CAB8-473D-9598-CA914760B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7ECE3-4EA3-48E5-A919-EFAC2FB79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AE426-6DA0-4D6C-84E7-80C6659A2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65DBE-B158-4609-9E5D-B81071E22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A6EB4-CF19-4E01-897B-212D5498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73124-E046-4071-9056-22C05D1BC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4AE1E-FBCC-4EF3-9837-AE7A05A9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BDB08-D0D1-41C9-B387-8FDDCBFC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5B7E5-838D-4C66-A598-9D87EE7C6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2AB36-0C55-460F-8F84-03EA77231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67414-8799-41EA-8950-CC6FE1510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E37B0-D639-4509-95A8-FB2773B06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C82CB-CDE6-4ADC-83F8-0C8BD6B64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28499-0F9E-4895-B440-42DDA8C9A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BE3EB-5C72-449C-9660-0194999A5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6D52D-51C8-48F5-A8FB-0F2D9EC5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7764E-A209-486A-A45E-4E25211F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87DEF-4B44-43EE-B2BB-F544C2E9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E1AF7-A1ED-4B2D-83CD-0C087BF718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3A7AD-EA83-48A0-B887-952F7F9F67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yword Cryptanalysis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Crypt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st basic observation of cryptanalysis is that every letter of a language has a personality of its 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every plaintext t is changed to a ciphertext m, then in the ciphertext, m assumes the personality of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he trained observer, the personality of a letter gives away its identit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of these personality characteristics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quency of occur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ct with other le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on within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A2E0C-D307-4AB4-95FD-7BA907FFAC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1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 English Frequency 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Frequency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 T  A  O  N  I  R  S  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um Frequency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 L U C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Frequency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F Y W G B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re Gro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 K Q X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911760" y="4332240"/>
            <a:ext cx="4765680" cy="2286000"/>
            <a:chOff x="3911760" y="4332240"/>
            <a:chExt cx="4765680" cy="2286000"/>
          </a:xfrm>
        </p:grpSpPr>
        <p:sp>
          <p:nvSpPr>
            <p:cNvPr id="118" name=""/>
            <p:cNvSpPr/>
            <p:nvPr/>
          </p:nvSpPr>
          <p:spPr>
            <a:xfrm>
              <a:off x="3911760" y="4332240"/>
              <a:ext cx="4765680" cy="22860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988080" y="4484520"/>
              <a:ext cx="4537080" cy="200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There is usually a sharp brea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between the high and medium groups. That is, H is usually 6% and D is usually 4%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SO:  look for the break between the high and medium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56D27-7340-4170-8D0A-838F389C3B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1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1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ngle Frequency Reas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gs to look for in a frequency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re are hills and valleys similar to standard English then the cipher is most likely a substitution, s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break between high frequency and medium frequency (look for a 2% drop between two let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st frequent letter is probably “e” or at least “t” or “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BAC44-2CBB-47FA-9E3E-95C5FC54895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 Frequency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7840" y="1571760"/>
            <a:ext cx="8229600" cy="16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it is one of the most useful tools in cryptanalysis, CAP provides a frequency analysis win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Frequency under the Basic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859040" y="3200400"/>
            <a:ext cx="4481280" cy="3502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4335D-2369-4920-9D6C-6667DE39BA3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quency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 will display the frequency in a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the Graph menu and click on s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68440" y="3363840"/>
            <a:ext cx="7772400" cy="303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312AB-DDED-48B9-9E3B-D938B81671A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word Workshe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98360" y="192672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have some possible substitutions test them using  the keyword worksheet to manually look for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416320" y="3411360"/>
            <a:ext cx="5128920" cy="3446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B6A86-1C2F-468D-8758-93E437C386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06T01:37:58Z</dcterms:modified>
  <cp:revision>51</cp:revision>
  <dc:subject/>
  <dc:title>CAP Cryptographic Analysis Program</dc:title>
</cp:coreProperties>
</file>