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7FC3C7-38D7-4447-8B7B-314095263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B8BD25-27A5-4E7B-B4AF-DCE2F1096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292FDD-5CD0-4305-887D-CD47EFD07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615041-BD09-4FD7-90F7-A6172C9B5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5F5B3-FC29-466A-8304-30137F4CE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1FCC2-D32C-4816-ACCC-93264ADE2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BF796-E30A-41D8-9FB7-60B451114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5D8A0-A0A3-4DBA-83E8-C6CCB4670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19AF9-0375-47DA-8859-A1075A57E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41ADF-3385-4EDB-8F52-EA8E6D742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5A5E7-3CC4-42BA-A0D2-FFC8A5255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7978E3-9E67-4CC3-B2E6-A39B92503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198C0-1F40-4413-BA28-D87EDEF24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C0455-24D0-47F1-96A3-59B1C6F64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A73CC-EF65-4393-B962-049D5BBA6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AD4EE-A121-4F9D-88DB-ECDD70A31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27DAF-3AB5-44D8-9CFC-F774C7DBD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A148B1-88AF-46F4-A1C9-A7E88D2F9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3D3BEA-64C6-4BF2-A5B2-7CAA6F390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EADB3E-1BC9-4A89-9A9A-9F7493226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EA8152-D64E-4281-998D-79A8CC6A5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9E1BBC-FD05-4E4E-9BAA-D49B46F3B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6A0C76-CEFD-49DC-A072-54AF7B997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191C16-24BD-4338-8FC3-D16875DD6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CAP_prj.exe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F62EE-CFE0-4940-B28F-80C3981ED02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94560" y="0"/>
            <a:ext cx="1549440" cy="2157480"/>
          </a:xfrm>
          <a:prstGeom prst="rect">
            <a:avLst/>
          </a:prstGeom>
          <a:ln w="0">
            <a:noFill/>
          </a:ln>
        </p:spPr>
      </p:pic>
      <p:sp>
        <p:nvSpPr>
          <p:cNvPr id="16" name=""/>
          <p:cNvSpPr/>
          <p:nvPr/>
        </p:nvSpPr>
        <p:spPr>
          <a:xfrm>
            <a:off x="673560" y="106200"/>
            <a:ext cx="401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Use the mouse button to activate each presentation st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02B65-3EAE-4FCA-A301-24C3D5A403F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CAP_prj.exe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AP</a:t>
            </a:r>
            <a:br>
              <a:rPr sz="4600"/>
            </a:b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ryptographic Analysis Program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2971800" y="4267080"/>
            <a:ext cx="6019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reaking a Column Transposition Help Present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077320" y="152280"/>
            <a:ext cx="914400" cy="12733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594880" y="6477120"/>
            <a:ext cx="559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s Enter or click on your mouse button to contin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39560" y="5270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reaking Transposi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13920" y="1936800"/>
            <a:ext cx="8293320" cy="367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re are three tasks involved in breaking a column transposition cipher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possible rectangle siz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the correct rectang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the column or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>
            <a:hlinkClick r:id="" action="ppaction://hlinkshowjump?jump=endshow"/>
          </p:cNvPr>
          <p:cNvPicPr/>
          <p:nvPr/>
        </p:nvPicPr>
        <p:blipFill>
          <a:blip r:embed="rId1"/>
          <a:stretch/>
        </p:blipFill>
        <p:spPr>
          <a:xfrm>
            <a:off x="228600" y="6248520"/>
            <a:ext cx="1009800" cy="48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3CAF8F-60DC-4BF7-B5CE-2CFBC91FDB7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ssible Rectang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first step in analyzing a column transposition is determining the number of colum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a completely filled transposition, the number of characters is the product of the number of rows and the number of colum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, factor the number of characters to determine possible row and column siz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A0E7B5-1617-42F7-A04A-3D8193FB0B4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ich Rectangl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ce the factors only supply possible column sizes - test each possibility by doing a vowel cou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 line of plaintext should contain about 40% vow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, count the vowels in each row of each possible rectang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one with the best match to 40% is the best choice for the actual rect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3A9E7E-4F0D-4B69-9BE8-7A77450D5E6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tter Affin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4438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ce the rectangle size is determined, the column order must be discove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vantage is taken of all the characteristics of the plaintext languag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, in all languages there are certain letters usually of medium or low frequency which combine with other letters to form diagrams of high frequ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 (medium frequency) combines with T to form TH (highest frequenc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 combines with C (medium frequency) to form 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 (low frequency) combines with E to form VE (medium frequency in military tex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115BE0-A492-440F-BB27-75533D5D51E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R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en there is an H, attempts should be made to combine it with a T or a C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 V should be combined first with an 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 K should be combined first with a 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6B8DB5-7126-4295-BD3A-48427B979D5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lot Lett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, there is usually in every language at least one letter which can be followed by only certain other letters forming a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obligatory sequenc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variable digrap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 is always followed by 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 can only be followed by a vow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 can be preceded only by a vowel and except at the end of a word can only be succeeded by a vowel or C, H, P, 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tters such as these with limited affinity are called pilot let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A6F125-7235-4C9C-B71A-519A0492304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14360" y="3286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umn Size in C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89000" y="1464840"/>
            <a:ext cx="76276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 will determine both possible column sizes and run a vowel analysis of each colum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241280" y="2478240"/>
            <a:ext cx="1060560" cy="437976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3683160" y="2276640"/>
            <a:ext cx="5263920" cy="445284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1152360" y="3457440"/>
            <a:ext cx="1257480" cy="619200"/>
          </a:xfrm>
          <a:prstGeom prst="ellipse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E216B6-490C-4EDB-9574-54386BE89C1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12920" y="2635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agramming in C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15440" y="1336680"/>
            <a:ext cx="724068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P provides a tool to aid in the anagramming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927000" y="2243160"/>
            <a:ext cx="1117800" cy="461484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2400480" y="2638440"/>
            <a:ext cx="6591240" cy="383544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887400" y="3909960"/>
            <a:ext cx="1257480" cy="523800"/>
          </a:xfrm>
          <a:prstGeom prst="ellipse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6BD70E-CC9F-43D4-B3B7-24811917B1F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0T07:51:43Z</dcterms:created>
  <dc:creator>Richard Spillman</dc:creator>
  <dc:description/>
  <dc:language>en-US</dc:language>
  <cp:lastModifiedBy>Richard Spillman</cp:lastModifiedBy>
  <dcterms:modified xsi:type="dcterms:W3CDTF">2004-03-09T01:47:44Z</dcterms:modified>
  <cp:revision>69</cp:revision>
  <dc:subject/>
  <dc:title>CAP Cryptographic Analysis Program</dc:title>
</cp:coreProperties>
</file>