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458C-DA4D-40D5-8C13-92F2341C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F417-5971-4B31-B371-B00956CC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11D4-65D8-4974-8FAC-41C6F7B1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15EB-61BD-41C3-94A4-996FBB4A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1CEE-E05A-46FE-B1B3-508F0516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1EEF-719D-4201-BBC9-4C7A64CA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5648-6D68-490F-97A0-64CE5E1F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6F52-0281-46EB-9E9C-42E1396C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1586-4A4E-4748-AB0F-E1DFD8C4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62FF-22EE-4AD7-BBCE-094FA3E2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CA9D-DA7E-4E33-BC51-E77D3089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2AEE-7615-4398-940C-259962AB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B9F7-6E32-462A-9560-B02799A8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C7E6-D141-4969-8CCE-A3057ACE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65FC-A50B-45D5-B2CF-CEDFF8A4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6E83-8A28-4B5A-B796-DD705F90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9D71-9739-4CB1-B776-B65D591C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02AC-CF0C-4D47-9E8C-76B2B4A2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AD97-9619-41C2-9838-15F3DDC1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F801-F355-4FF2-815E-275EE981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2779-7EE2-4388-879F-02AD94BD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F7C4-52B9-4728-B2E2-15164625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C719-40DC-4499-97D5-802942D3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1FEC0-AEF7-4EAD-8497-B0814023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D10-98C8-43A7-9E4A-353BBBFCD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BA21-422D-471B-833B-5C61D91A4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ffin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eak the Affine cipher all that is necessary is to find the substitution for two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say plaintext “e” is represented in the ciphertext by “c” and plaintext “t” is represented in the ciphertext by “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substitutions define to affin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9720" y="4114800"/>
            <a:ext cx="80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= a*4 + b mod 26 (since e – character 4 is replaced by c – charac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= a*19 + b mod 26 (since t – character 19 is replaced by f – characte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3840" y="5105520"/>
            <a:ext cx="71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the two equations for a and b results in the affine key (21,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affine equ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c = 21*p + 22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9905-E601-43BB-A99B-07A7253062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solve the equations provided you find at least two correct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670572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81280" y="2971800"/>
            <a:ext cx="1295640" cy="685800"/>
          </a:xfrm>
          <a:prstGeom prst="wedgeRoundRectCallout">
            <a:avLst>
              <a:gd name="adj1" fmla="val -45953"/>
              <a:gd name="adj2" fmla="val 6990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514600"/>
            <a:ext cx="1295640" cy="380880"/>
          </a:xfrm>
          <a:prstGeom prst="wedgeRoundRectCallout">
            <a:avLst>
              <a:gd name="adj1" fmla="val -45953"/>
              <a:gd name="adj2" fmla="val 16583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on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1905120" cy="1143000"/>
          </a:xfrm>
          <a:prstGeom prst="wedgeRoundRectCallout">
            <a:avLst>
              <a:gd name="adj1" fmla="val -47250"/>
              <a:gd name="adj2" fmla="val 8861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appears to be plaintext then you were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wise try another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5228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313D-ACA3-4D1A-934D-D93AE3C112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3T00:30:51Z</dcterms:modified>
  <cp:revision>31</cp:revision>
  <dc:subject/>
  <dc:title>CAP Cryptographic Analysis Program</dc:title>
</cp:coreProperties>
</file>