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2500-1C12-4995-B190-83FC6BCB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67F60-152C-45AC-BBE5-428C55FC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C327-654C-40C6-B4FD-3B808C40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FB10E-2152-4914-8AAD-7992FBB8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DDD9-B856-4B42-9E05-A01960F5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2BF6-C16B-4A3B-B4F2-786FC383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7B34-C37F-44C6-9977-1AC57FD5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2158-69AD-4A48-B5E2-29F0E9E7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1061-400B-495D-B832-9EA372BD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E210-7AF3-4D06-A9E6-C7BC097E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041B-93FB-4293-AE95-EF2278AC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A0A4A-E86D-4987-8425-27638F2F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87C0-CC71-403A-954F-214092F6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7241-B47D-4D76-8D1B-F3D74DC1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86D4-01F6-4314-BB18-FBB346AD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1679-2779-45FD-AC47-ABA6624A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A657-1E79-4D01-8E3B-803FEDDA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AA5D9-8639-4A30-B452-9B9F1B5A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EB8BF-8D21-42C5-86D0-F5E519D4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A1140-7FC5-457B-8538-230FDCB6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6B15D-0263-49A6-9428-6970A71B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125C6-9E66-427A-9B86-6EC225EF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B588A-EBD1-40B5-A862-0A11BB03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1A8A-D5CA-4268-8AFD-B36F75E0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BE2D-5705-48A7-B176-80884B5927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53C0-CC45-42E3-8CF6-DCC2AE2754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key-Cipher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key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a small key length is a weakness of a Vigenere cipher one fix that has been used is called an autokey cip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keyw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keyword to encipher the first segment of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iphertext (or the plaintext segment which was just enciphered) as the key for the next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12A88-A920-4B91-A5C5-9450088832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72520" y="321624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autokeycipherprovidesalong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756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77560" y="3521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1072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709640" y="3292560"/>
            <a:ext cx="152640" cy="3808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0720" y="3521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Courier New"/>
              </a:rPr>
              <a:t>w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4424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Courier New"/>
              </a:rPr>
              <a:t>w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166840" y="3368160"/>
            <a:ext cx="228600" cy="304920"/>
          </a:xfrm>
          <a:prstGeom prst="line">
            <a:avLst/>
          </a:prstGeom>
          <a:ln w="9360">
            <a:solidFill>
              <a:srgbClr val="99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96960" y="549576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 will implement this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18D46-B13C-4DCB-AA91-C14EF34630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3T04:10:17Z</dcterms:modified>
  <cp:revision>59</cp:revision>
  <dc:subject/>
  <dc:title>CAP Cryptographic Analysis Program</dc:title>
</cp:coreProperties>
</file>