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2BF0-8CD7-4759-B636-4D20DDA8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CC76-C1C1-4926-9668-D537B54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3BC7-D82E-4D9A-AA96-7F3BC2DD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72F7-2AC5-404F-8849-A6612D0B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4438-3200-40A6-AF2E-4984907F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7E58-599C-41F4-A096-146C6AE4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CF7-50B9-437F-8DBE-99DB2346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AD83-5953-4B4F-8E6E-9AEBA8E5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6620-0E1A-482A-83E5-0A2AD392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1F80-DEE6-4DED-9084-F9E89A63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95F3-6349-4C80-96B5-04EAC3B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8FED-47F4-4CA1-9B16-1C13C7C5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F110-3AC8-48CB-B6DC-61281D7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30E3-48B5-4442-AF06-2A2C826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37AA-7CFF-489A-B0B9-B847CC7E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44CE-F83E-4240-8700-CE2ABBF2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2CA4-2506-4EAF-B4A3-185A2C11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E63B-63A4-44FD-8A9A-6DB6E02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4142-AA4F-4A3D-9648-157301CE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E57F-1EBD-400D-8A81-3632187C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C723-8006-4A59-B1BB-E732D878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428B-7AF2-49CC-911D-800C7C75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489E-D117-4D07-BEE6-71149BBA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CF06-DCA1-49FA-AFB9-43BBB60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D010-127F-410B-8367-83FA70638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DC9F-9209-43EC-A82F-6A570A59B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ine cipher is another version of a substitution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tter is assigned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umbers are selected (a, b) between 0 and 25 such that the gcd(a,26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 and c represent letters (p,c are numbers between 0 and 26) where p is a plaintext letter and c is a ciphertext letter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13440" y="490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ap + b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55515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 = 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c - b)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2F6A-FCCC-455F-9D36-846A863145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key (a,b) = (7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d(7,2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6 = 15 (since 7 x 15 = 105 and 105 mod 26 =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3535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The general encipher/decipher equ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960" y="4087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7p + 3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4552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hot” is 7 14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040" y="506412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h)     = 7*7 + 3 mod 26 = 52 mod 26 = 0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3040" y="54594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o) = 7*14 + 3 mod 26 = 98 mod 26 = 23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8482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t)  = 7*19 + 3 mod 26 = 133 mod 26 = 6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5600" y="6246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5F47-55AB-470A-AB8F-121FE27A59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Cipher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5708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Affine option under the cipher menu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886120"/>
            <a:ext cx="7283520" cy="32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2766960"/>
            <a:ext cx="1164960" cy="784440"/>
          </a:xfrm>
          <a:prstGeom prst="wedgeRoundRectCallout">
            <a:avLst>
              <a:gd name="adj1" fmla="val -45097"/>
              <a:gd name="adj2" fmla="val 653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 the two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5040" y="2305080"/>
            <a:ext cx="1165320" cy="614160"/>
          </a:xfrm>
          <a:prstGeom prst="wedgeRoundRectCallout">
            <a:avLst>
              <a:gd name="adj1" fmla="val -45097"/>
              <a:gd name="adj2" fmla="val 972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set up you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0" y="2287440"/>
            <a:ext cx="1560600" cy="890640"/>
          </a:xfrm>
          <a:prstGeom prst="wedgeRoundRectCallout">
            <a:avLst>
              <a:gd name="adj1" fmla="val -55699"/>
              <a:gd name="adj2" fmla="val 9706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or message if you fail to select the correct ke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06280" y="620388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DEEB-8FED-43E7-A65B-CABB9679C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0T08:51:09Z</dcterms:modified>
  <cp:revision>45</cp:revision>
  <dc:subject/>
  <dc:title>CAP Cryptographic Analysis Program</dc:title>
</cp:coreProperties>
</file>